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wmf" ContentType="image/x-wmf"/>
  <Override PartName="/ppt/media/image9.wmf" ContentType="image/x-wmf"/>
  <Override PartName="/ppt/media/image6.gif" ContentType="image/gif"/>
  <Override PartName="/ppt/media/image11.png" ContentType="image/png"/>
  <Override PartName="/ppt/media/image19.wmf" ContentType="image/x-wmf"/>
  <Override PartName="/ppt/media/image1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jpeg" ContentType="image/jpeg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6F7-EC06-43DB-8524-BFDA58B0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25F-1720-4D61-A8F9-1ACEE62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34C-B83B-4653-BE14-41B35B1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74B-42FA-42D8-B4A4-13EDF5CC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3AA-7B53-44BC-B0F0-9A8FB90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F41E-8940-4CD8-974B-0CBF411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11E-7D0F-4C97-8C0E-4E1DAB6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A82-4CC4-4AD4-896E-2A2BD84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759A-74C2-4581-BE56-0C4C1E18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042-0B60-4F29-A351-4A4A361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7B0-FE01-4A26-9BF3-7EEBF3C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34B-02F0-4ADC-B6D3-9C91CD7B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4CE-5A10-4239-8B16-CA977BFB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881-8500-4BAA-B927-6DB7BD3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6A4-E4F6-42EE-8F62-DBD1C55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B1F1-9D85-4E9A-9872-552184FC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4E6-0EC9-44F9-AFDA-9116A61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8B7-56D4-440A-ACA6-8F3D565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8AA-9D3E-40DE-9A5A-A0A563E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D47-80FB-455A-9E76-CDFC89CB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17E-83FB-4158-BFE6-21348F9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B85-D4AC-4034-B2A7-21F9BB2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6A7-68A8-48FC-A6AD-871D813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0C6-B644-4C4F-9589-31C7C59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FB1D-EE67-41CA-83C1-0DE248074A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537-7B21-4E71-A172-6AEDB93A40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The Road to Revolution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itain &amp; Her Colonies Grow Ap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72412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ritain Tries to Back 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wnshend Duties of 17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ea, glass, paper, lead, pa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direct tax (paid by mercha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venue used to pay colonial officials previously paid by legisl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rits of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pealed 1770 except for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8651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Colonial Resist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co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&amp; Daughters of Liberty (176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achusetts Circular Letter of 1768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etters from a Farmer in Pennsylvani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ickins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s of Correspondence (177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ring &amp; fe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ging in effi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customs ship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aspe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rned in 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17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arring and Feather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29076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Massachusetts Circular Letter, 1768 (Sam Adams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pposition to Townshend Du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s made there, imposing duties on the people of this province, with the sole and express purpose of raising a revenue, are infringements of their natural and constitutional rights; because, as they are not represented in the British Parliament, his Majesty's Commons in Britain, by those acts, grant their property without their consent”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etters from a Farmer, 1767 (John Dickinso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eries of letters in response to British a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dreadful stroke is aimed at the liberty of these colonies”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oston Massac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5, 17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ops in Boston to enforce Townshend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 building between colonists &amp; British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ght at the rope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 with young b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owballs &amp;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3161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oston Massacr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!” or “Don’t fire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 Adams’ “massac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Revere’s engra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Adams defends British soldi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found not guil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3161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Revere’s Engraving: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What is the Message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5480" y="1996920"/>
            <a:ext cx="4251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Boston Tea Party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(Dec 16, 177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 A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ritish East India Co monopoly on tea to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Indians” dump all the tea in Boston Harbor ($75,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other colonies sympathize with Massachuset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call for inter-colonial cong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ercive/Intolerable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rt of Boston clos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elf-government reduced; Gage military govern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oyal officials tried in Brit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ritish troops quartered in private ho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bec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oman Cathol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presentative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oundary of Quebec to Ohio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37360" y="4624560"/>
            <a:ext cx="2906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First Continental Congr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, September 17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cals, moderates, conserv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Declaration of Rights &amp; Griev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uffolk Reso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peal of Intolerable 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oyco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ilitary prepa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The 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congress May 1775 if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3352680"/>
            <a:ext cx="18655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ealth =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lonies sources of raw materials &amp; food &amp; markets for manufactured g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de &amp; Navigation Acts (165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oods carried only in English sh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numerated commo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uties paid by colonies in England on goods to &amp; from Europ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52280"/>
            <a:ext cx="23857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exington &amp; Conc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9, 17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trying to capture military supplies in Con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rching for Sam Adams &amp; John Hanc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One if by land, two if by se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The Regulars are coming!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Paul Revere &amp; William Daw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utemen on Lexington Green; 8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repulsed at Concord’s North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chased back to Boston; 250 casual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hot heard ‘round the world”: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r had beg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293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arly Legisl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len Act of 16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t Act of 17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lasses Act of 17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on Act of 17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s of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real enforcement by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uggling by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licy of “salutary negle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286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French &amp; Indian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alry between Britain &amp; F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754-176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rritorial cl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ur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in the Ohio Valley &amp; Great Lakes regions &amp;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ttle of Quebec deci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279440" cy="127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1746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sults of F&amp;I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out of North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Native Americans re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’ respect for British dama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land for the ta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ain puts troops in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itain heavily in de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itain begins enforcing tax law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ritish Point of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was for defense of colonies so they should help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ed to exercise more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ger from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tiac’s Rebellion;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clamation of 17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policy toward colonies within emp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077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Colonial Point of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not so t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e g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can handle Native 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, land,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ust of standing ar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ugg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alutary neglect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why the crackdown on taxes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independence &amp; self-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1461960" cy="1127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25244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95680" y="5684760"/>
            <a:ext cx="15271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rting Down the Road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gar Act/Revenue Act of 17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wer duties on molasses to stop smugg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muggling cases tried in admiralty courts (no ju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artering Act of 17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lonists must provide food &amp; shelter for British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mp Act of 17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irst direct 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mp required on all official doc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ffected all colonists, especially merchants &amp;  lawy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Reaction to Stamp Ac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tamp Act Congress in NY 17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com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ycotts of British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No Taxation Without Representation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vs. direct re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mp Act repealed 176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claratory Act of 176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in all cases whatsoever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9880" y="5425920"/>
            <a:ext cx="1909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6:03:47Z</dcterms:created>
  <dc:creator>epilla</dc:creator>
  <dc:description/>
  <dc:language>en-US</dc:language>
  <cp:lastModifiedBy>epilla</cp:lastModifiedBy>
  <dcterms:modified xsi:type="dcterms:W3CDTF">2011-11-16T15:18:59Z</dcterms:modified>
  <cp:revision>25</cp:revision>
  <dc:subject/>
  <dc:title>The Road to Revolution </dc:title>
</cp:coreProperties>
</file>